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208-389A-4E94-B9F8-9C54343C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019-4BC3-493A-B0A3-B22FCF68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0F3-BFEA-4CDF-85CC-183AE934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CFE-DE27-408F-AA22-BCD88F2F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27B9-CDA8-491A-ADED-0876BDD4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23E8-19FA-425F-9CCF-8D2EC5E5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5B1B-8373-4C45-95A2-A0EE98DB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36CF-5B81-481B-80F6-3F1D6A94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287-075E-4475-A7E2-D400F64B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E863-3599-4FA5-8BF7-8C8F32ED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6D96-7761-4CCC-AC4F-2A8EBA65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D78-8C2C-4D00-A51D-4B59495A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DA32-95CB-4DD6-A38E-E5739877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62E6-A1C7-423B-A2B1-A9129E38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1BB2-AC1A-4A45-9053-CBDCA1F7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8D11-E69D-4C08-8E46-ADEB3E13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71A7-F19C-4D8B-9700-2D99C522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09B5D-A5D6-48D2-99C5-944CCC57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91C1-B2D6-4425-8EF1-2CD86A76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5480-A991-4ECE-B1C4-FAB8488D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19771-5227-4D3C-92BE-3AF9F0BA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D37A-A242-4D18-8C42-D7B70024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222-0D05-4DEA-A752-15EF1CCD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E6D4-7050-4DB2-A0C1-E94FC97B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EA78-8BA7-4518-BCB2-134BFC2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AA1E-813D-4FF6-B579-A98A0B13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9DF8-DF4D-43E2-A1F1-097824F7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E78D-4631-494E-BDCC-DE9E4408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4BDC-D9F2-46EB-9DCE-CC519540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CD5C1-0D6D-49C6-B914-6223DEA3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4A87-D1D3-4812-BF66-C79453AC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B73DE-B802-45B2-AA0A-A48E9CC6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BB37-1628-498F-9705-CED91489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7F7-D4B5-4F9B-A88A-2AE6EB79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22BE-36D0-4392-A577-D3DCA44E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2C76-8730-4E13-99E0-C21176C9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1E4D-9266-4A58-BF29-2728D413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0C75D-350A-4240-90B7-6BE068F4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95EDD-3A6F-46BA-8BEE-C8518243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7957A-538A-4768-B765-634650F3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F3934-37CD-4AAC-A7CB-CCB316A3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9442-7713-42FF-A838-DB77BDDC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0BAFF-C4E2-40FF-80D9-062A6BD8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3C86-9809-4F7E-8701-30ED19AE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198-D43B-48BF-AD15-964EF4DC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0E83D-C1AE-41F4-B294-DA0BCEC0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2A7E1-4355-47B0-AA66-68F0D366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410DE-42A5-475D-9475-A024D74B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3E90F-3107-4314-A16B-148C9225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3EB5E-9A31-4EAB-96A6-A353C3DF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FCA87-A3AA-4161-BD3E-BE81BF3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03005-1718-45A4-B7FC-1AB819A6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610F-47E6-47C7-99A3-693B7269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D0C81-E05A-44EB-BD69-3A73CDBF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A780B-255C-4CCC-8A33-06D5C569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299-2A86-4DC3-ABA9-184827C9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463DD-51CA-4994-888A-D7E3F9C1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EA06C-6E2A-4712-B27C-CB7C4AD4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38A37-29F0-4C55-94B8-34948501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EC0E2-8322-464A-850D-6C7106E9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59878-7154-4F0E-B22F-D0D73925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D1D4-89B8-4B2A-AF7B-388DD9A9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AAF86-12EF-482C-A611-7C9E2172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22640-65DD-4ABF-B3D0-5946694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F437C-A5EB-4063-B7E6-976DA8BE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F62F8-49FF-48EE-AE93-42EC42A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018-9F92-4E22-8CD1-569FE836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8D9B0-8552-457B-B87A-3EF6FE36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0D81E-C925-401E-9DCD-40B25090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98A8E-6797-46D1-8628-F0F0EC9D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DE460-9B36-4C8F-B2AB-6EE9A0FB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07AA8-A6EB-486D-AC02-222AC764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9B1C9-C09D-4760-8790-725B8B41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195CC-0BB4-4045-82F7-202A7699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C762D-F334-41D2-B503-159DD748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40556-7D54-4381-9B42-1C4D0058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06AAC-1FA0-42CD-8AB0-6D13F6C4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451-3983-49E3-8E63-B543CD22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A0D31-6610-4F7A-B1E8-11780E20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293A8-C2B5-4EFC-B447-92E2D319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5BD07-23EA-4A1E-A3B4-A3FE0733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13FA5-D318-402D-AE65-96978EF7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19170-FADB-48D8-AC40-A6C8A7A7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681B1-9128-4833-8D3B-0F85F3DF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ED48F-68AC-4DAB-838F-6725DBC0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0D0F3-7490-4319-BEB7-56E807C6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9575E-22AC-4C27-A676-76FA971D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A4020-C59C-434E-808E-43523A45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7B7-7937-44CA-BF48-6F0B91C2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B60B4-83DF-4A84-9435-60BA0DFB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ABC25-3FD1-4D88-9EE4-E313A5C5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6C3A8-C793-4B9F-8B3D-F2A1DEE0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6C7C1-A31F-4E6B-A27D-596C2819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C3547-FFEB-40A5-8CA0-282958F2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F5A70-5FC7-455F-8C2A-D638A009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3AAE5-3413-41E1-AC17-D22FD82C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Łącznik prostoliniow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E796-815A-4977-9699-564C163B4BF9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Łącznik prostoliniowy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1CA2-E4A4-4D78-8E20-C8FA35B17E86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2BF6-7EEA-4DA1-A27E-E1A5859124A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1E3F-C290-41DD-A7D9-079720BE6E25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2459-5AF1-452E-AA93-9A8E632BC20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4F6C-2FA9-425C-8AB7-126F523B27B9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91DE-986F-4B8E-AFAB-6085C3110E2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Łącznik prostoliniowy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E249-4712-4048-BD6C-BD873A399312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ytuł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7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816120" y="1481040"/>
            <a:ext cx="75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158840" y="148104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625760"/>
            <a:ext cx="82296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23880" y="1481040"/>
            <a:ext cx="78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57200" y="1486080"/>
            <a:ext cx="82296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8229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65120" y="1481040"/>
            <a:ext cx="821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457200" y="2271600"/>
            <a:ext cx="8229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457200" y="1798560"/>
            <a:ext cx="8229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004760" y="148104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27:13Z</dcterms:created>
  <dc:creator>Ania</dc:creator>
  <dc:description/>
  <dc:language>en-US</dc:language>
  <cp:lastModifiedBy>Ania</cp:lastModifiedBy>
  <dcterms:modified xsi:type="dcterms:W3CDTF">2013-07-10T06:49:14Z</dcterms:modified>
  <cp:revision>9</cp:revision>
  <dc:subject/>
  <dc:title>POTĘGI I PIERWIASTKI</dc:title>
</cp:coreProperties>
</file>